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3D9-DAD1-4677-A867-4DE5305E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4DB-0AB1-4AAB-9FCF-22A09781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BE7-FC1B-49D7-A400-99906365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221-8734-4798-B7D1-CD5D4774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983-39A9-43DE-8C9E-B3190960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DA3-04B2-4AAF-A9B4-F1A3070C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6DD-FB22-4703-AEDC-E6FBF927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311-861E-4718-BB18-B7BDE6B1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479-F4D1-482E-92DA-FBF05965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32E-2019-4D7E-8412-2DBFE7B9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3A3-8741-49AF-AC4B-3005B349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7DA-FF9D-40F5-92CD-86C00302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6602-1CB3-4B28-9798-6C69867FAB1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 Light"/>
              </a:rPr>
              <a:t>Phpdocx present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ther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4T09:59:10Z</dcterms:created>
  <dc:creator>jorge-w7</dc:creator>
  <dc:description/>
  <dc:language>en-US</dc:language>
  <cp:lastModifiedBy>jorge-w7</cp:lastModifiedBy>
  <dcterms:modified xsi:type="dcterms:W3CDTF">2016-11-24T10:02:39Z</dcterms:modified>
  <cp:revision>1</cp:revision>
  <dc:subject/>
  <dc:title>Phpdocx presentation</dc:title>
</cp:coreProperties>
</file>