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B31-705D-4320-96F4-9FFD6C06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DBE-BBB7-4FA9-8F49-6809CF74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8F2-B493-4DB6-BB59-0508FE8A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7AC-5603-41CA-B16F-9DCAC685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83A-5E51-4FA4-9804-76B5FA16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321-B29A-4250-82B8-E8B7E764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8D7-13E5-4004-B6FC-1E350881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C4D-07D2-43D7-BA0F-7F8C7C25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E26-D2C5-4DC2-A3DC-0F417118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B78-7F0C-4364-BDA4-BDDA627B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BE2-FC0F-4163-A6CD-0008C219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6A1-E7EA-4BC6-8D0B-0EE8701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2112-5BA1-4727-B52B-01F37A0D7A5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 Light"/>
              </a:rPr>
              <a:t>Phpdocx present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the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4T09:59:10Z</dcterms:created>
  <dc:creator>jorge-w7</dc:creator>
  <dc:description/>
  <dc:language>en-US</dc:language>
  <cp:lastModifiedBy>jorge-w7</cp:lastModifiedBy>
  <dcterms:modified xsi:type="dcterms:W3CDTF">2016-11-24T10:02:39Z</dcterms:modified>
  <cp:revision>1</cp:revision>
  <dc:subject/>
  <dc:title>Phpdocx presentation</dc:title>
</cp:coreProperties>
</file>