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562-7925-482F-8EEE-7A99E39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7C7-91EF-43F6-A4BE-FC204CF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2E8-9B00-4920-8801-C2C13E5A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B1B-7095-4B9E-987B-A16E8D19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9DD-0CC5-4232-9CC8-051F5D52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C1B-1530-4FD7-A6E7-D9F3171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4AD-8560-4CFA-A3C3-C8FB759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DA3-1FF0-4710-A753-1B78D12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5AB-B5CB-40B6-ADD5-81082EB0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9A2-14BD-4880-B286-DA16D73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820-37BE-4287-99CC-3BDA3F1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949-46B3-4486-8E06-A2679B1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96A-F1AB-46E4-87DB-2532C72558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 Light"/>
              </a:rPr>
              <a:t>Phpdocx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he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09:59:10Z</dcterms:created>
  <dc:creator>jorge-w7</dc:creator>
  <dc:description/>
  <dc:language>en-US</dc:language>
  <cp:lastModifiedBy>jorge-w7</cp:lastModifiedBy>
  <dcterms:modified xsi:type="dcterms:W3CDTF">2016-11-24T10:02:39Z</dcterms:modified>
  <cp:revision>1</cp:revision>
  <dc:subject/>
  <dc:title>Phpdocx presentation</dc:title>
</cp:coreProperties>
</file>