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730-CE3B-44A6-8FFB-CF72F64B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267-941B-4C83-B3BD-1E37D2AD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EE9-7B0C-4D1E-9F75-5AAE5DAF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1A2-412D-417F-94E7-E36D1B02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E8B-C28C-44B9-B65F-C4F0137B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E21-6C67-40E2-9181-73621320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D7E-C86A-4774-B0E3-1A3339CE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B4F-B546-4551-9EF1-17AC0185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054-B070-4DE5-BCD2-305FA837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41C-4DAC-475D-9D3A-68A1A95D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C26-B746-439F-8D1F-06DD1AC6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F46-8E94-4ABD-B189-9CB0BF65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70E4-9414-407F-AF57-9912169041B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 Light"/>
              </a:rPr>
              <a:t>Phpdocx presenta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ther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4T09:59:10Z</dcterms:created>
  <dc:creator>jorge-w7</dc:creator>
  <dc:description/>
  <dc:language>en-US</dc:language>
  <cp:lastModifiedBy>jorge-w7</cp:lastModifiedBy>
  <dcterms:modified xsi:type="dcterms:W3CDTF">2016-11-24T10:02:39Z</dcterms:modified>
  <cp:revision>1</cp:revision>
  <dc:subject/>
  <dc:title>Phpdocx presentation</dc:title>
</cp:coreProperties>
</file>